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7EDD-4DFF-4AE2-8072-CEC9D6EB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05C-993B-47FF-9154-980A6A02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0331-0601-4B38-AB61-2E993345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5128-4173-4A19-A733-A9B9B5ED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1016-6003-4F95-8EFF-F34850ED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4692-C11F-4DBC-8E53-4E547DCA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E188-B08C-43B6-9EC6-F4783DDB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941E-BD75-4C36-8184-25AE3839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70BD-D466-4AD2-9EBA-AFFD87FA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1B11-A053-49C9-99A1-F988E950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0BA4-E748-43B4-9B58-BB90B54A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A029-B5F5-4FEB-B567-9CF6B08A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6724-4052-44D6-8BA5-E118A41B8C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ерхностны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ерс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В, П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сорб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ач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гезия, коге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ойчивость дисперсны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ксотропия, синер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гетероген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рогетерогенные системы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инные растворы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28600" y="2592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сорбция на границе раствор – г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сорбция на границе раствор – газ  - это самопроизвольной процесс, приводящий к уменьшению поверхностной энергии за счет уменьшения поверхностного натя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685800" y="4875840"/>
            <a:ext cx="513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– абсолютная температу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543800" cy="25909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8"/>
          <p:cNvSpPr/>
          <p:nvPr/>
        </p:nvSpPr>
        <p:spPr>
          <a:xfrm>
            <a:off x="1447920" y="17524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Гибб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28600" y="6094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ая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зует поведение вещества при адсорб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380880" y="15238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верхностная активность     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676520" y="2895480"/>
            <a:ext cx="6476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666440" y="959400"/>
            <a:ext cx="63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В: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g &gt; 0 ;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&lt;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Г 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g &lt; 0 ;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&gt;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Г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04920" y="249768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ерхностная активность предельных жирных кислот в водных растворах возрастает в 3 – 3,5 раза при удлинении углеводородной цепи на одно звено (группу –СН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эмпирическое правило Дюкл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Трауб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5334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533520" y="6858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ведении ПАВ в одну из жидкостей оно адсорбируется на границе раздела фаз и снижает межфазное поверхностное натя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382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5" name="AutoShape 4"/>
          <p:cNvCxnSpPr/>
          <p:nvPr/>
        </p:nvCxnSpPr>
        <p:spPr>
          <a:xfrm flipV="1">
            <a:off x="2133360" y="837360"/>
            <a:ext cx="53823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AutoShape 5"/>
          <p:cNvCxnSpPr/>
          <p:nvPr/>
        </p:nvCxnSpPr>
        <p:spPr>
          <a:xfrm>
            <a:off x="5257440" y="609480"/>
            <a:ext cx="1080" cy="1410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Rectangle 6"/>
          <p:cNvSpPr/>
          <p:nvPr/>
        </p:nvSpPr>
        <p:spPr>
          <a:xfrm>
            <a:off x="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62120" y="3798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ческая адсорбция                 Химическая адсорб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66680" y="806400"/>
            <a:ext cx="73152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мый процесс                                            Необратимы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ая специфичность   процесса                       Высокая специфичность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значительная теплота адсорбции                  Высокая теплота адсорбции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повышением температуры                              С повышение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сорб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мосорб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ьшается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 flipV="1" rot="10800000">
            <a:off x="0" y="229680"/>
            <a:ext cx="91425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мость процесса. При физической адсорбции имеет место динамическое равновесие: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рбция ↔ Десорб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838080" y="2521800"/>
            <a:ext cx="815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       +            НСООН    →             С ∙ НСО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ент        адсорбтив          адсорбционный комплек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∙ НСООН           →           С            +             НСО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онный комплекс    адсорбент           адсорбтив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28600" y="258120"/>
            <a:ext cx="822960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емо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         +           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→         С ∙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ент   адсорбтив       адсорбционный комплек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∙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→                     С    +    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онный комплекс    адсорбент   новое хим. соединени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4572000" cy="16002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533520" y="28954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 изотермы Ленгмю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09480" y="465336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макс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ельное значение адсорб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вновесное давление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оя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6096240" cy="25146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228600" y="380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терма адсорбции Ленгмю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105520" cy="23623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5638680" y="9907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θ &lt;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верхность гидрофильн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3378240" cy="30733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4191120" y="4267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θ &gt;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верхность гидрофобн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604800" y="533520"/>
            <a:ext cx="3357720" cy="4876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4267080" y="1447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сорбционное пон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ердости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 Ребинд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перс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04920" y="18277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дисперсных систем характерны два общих призна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терог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перс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56"/>
          <p:cNvSpPr/>
          <p:nvPr/>
        </p:nvSpPr>
        <p:spPr>
          <a:xfrm>
            <a:off x="304920" y="3503880"/>
            <a:ext cx="8153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по структу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еляют 2 ви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вободнодисперс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ых частицы дисперсной фазы не связаны между собой (суспензии, эмульсии, пены, аэрозоли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вязнодисперс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ых частицы дисперсной фазы не могут перемещаться свобод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228600" y="38448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дгезия (прилипание) – это взаимодействие между приведенными в контакт поверхностями конденсированных фаз разной природ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80880" y="1984680"/>
            <a:ext cx="838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адгез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работа обратимого разрыва адгезионной связи, отнесенная к единице площади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380880" y="33526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езия – это притяжение, взаимодействие между молекулами (атомами, ионами) в объеме данного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28600" y="45756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ой когезии Wc  называют  свободную энергию разделения тела на части и удаления их на такое расстояние, когда нарушается целостность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228600" y="391680"/>
            <a:ext cx="8534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оотношение работы когезии Wc и работы адгезии Wa служит для определения способности жидкостей смачивать твердые те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Wa &lt; 0,5 Wc         поверхность несмачи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0,5 Wc&lt;Wa&lt;Wc    полное  смач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Wa&gt;Wc      растекание жидкости по поверхности твердого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304920" y="4343400"/>
            <a:ext cx="85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ают два основных вида устойчивости дисперсных систем (Песков Н.П.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диментацион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грегатив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04920" y="54072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льтрамикрогетерогенны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(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м) – устойчивы, характерна диффузия, обеспечивающая равномерное распределение частиц по объему сис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Микрогетерог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истемы (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м) – устанавливается седиментационно-диффузное равновес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80880" y="266904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рубодисперсн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(боле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) – неустойчивые системы, происходит быстрая седимент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3962520"/>
          <a:ext cx="8305920" cy="2803320"/>
        </p:xfrm>
        <a:graphic>
          <a:graphicData uri="http://schemas.openxmlformats.org/drawingml/2006/table">
            <a:tbl>
              <a:tblPr/>
              <a:tblGrid>
                <a:gridCol w="1384200"/>
                <a:gridCol w="1382760"/>
                <a:gridCol w="1384200"/>
                <a:gridCol w="1384560"/>
                <a:gridCol w="1385640"/>
                <a:gridCol w="1384560"/>
              </a:tblGrid>
              <a:tr h="35100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д. см/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 за которое частица осаждается на 1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,7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,2 ч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9 с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3"/>
          <p:cNvSpPr/>
          <p:nvPr/>
        </p:nvSpPr>
        <p:spPr>
          <a:xfrm>
            <a:off x="380880" y="3465360"/>
            <a:ext cx="74883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 седиментац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iO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зависимости от размера час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304920" y="3830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Факторы устойчивости дисперсных сист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:         термодинамические    и   кинетиче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04920" y="1764360"/>
            <a:ext cx="8610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Термодинамическ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 это факторы, которые понижают поверхностное натяжение на границе частица – дисперсионная среда и тем самым понижают поверхностную энергию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Электростатически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дсорбционно-сольватный 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Энтропийны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380880" y="467640"/>
            <a:ext cx="8229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Кинетические факто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вязаны с гидродинамическими свойствами дисперсионной среды, с замедлением сближения частиц, вызванного замедлением вытекания и разрушения прослоек дисперсионной среды между частиц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труктурно-механически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идродинамический факт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380880" y="3733920"/>
            <a:ext cx="8001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линивающее д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 = р - р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П – расклинивающее давл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и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авление в пленке и гидростатическое давление в окружающей пленку ф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84872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1219320" y="30528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уктурированные дисперсные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762120" y="137160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агуляционные             Конденсационно-кристаллиза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Прямая со стрелкой 6"/>
          <p:cNvCxnSpPr/>
          <p:nvPr/>
        </p:nvCxnSpPr>
        <p:spPr>
          <a:xfrm flipH="1">
            <a:off x="2285280" y="762120"/>
            <a:ext cx="1143720" cy="381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2" name="Прямая со стрелкой 8"/>
          <p:cNvCxnSpPr/>
          <p:nvPr/>
        </p:nvCxnSpPr>
        <p:spPr>
          <a:xfrm>
            <a:off x="4800600" y="837720"/>
            <a:ext cx="1296000" cy="381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23" name="Rectangle 2"/>
          <p:cNvSpPr/>
          <p:nvPr/>
        </p:nvSpPr>
        <p:spPr>
          <a:xfrm>
            <a:off x="533520" y="1987920"/>
            <a:ext cx="3124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иксотроп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нерези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большая проч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бух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зуч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0"/>
          <p:cNvSpPr/>
          <p:nvPr/>
        </p:nvSpPr>
        <p:spPr>
          <a:xfrm>
            <a:off x="4420800" y="2209680"/>
            <a:ext cx="31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уго-хрупкие 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1"/>
          <p:cNvSpPr/>
          <p:nvPr/>
        </p:nvSpPr>
        <p:spPr>
          <a:xfrm>
            <a:off x="4956480" y="2743200"/>
            <a:ext cx="14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3581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839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>
            <a:off x="685800" y="3049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ьматация – процесс естественного и искусственного вмывания мелких (главным образом глинистых и коллоидных) частиц в поры и трещины горных пор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609480" y="1414440"/>
            <a:ext cx="8153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 дисперсные системы, состоящие из двух (или нескольких) жидких ф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характеру жидкости дисперсной фазы и дисперсионной среды все эмульсии можно разбить на два ви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масла в воде  (м/в) или эмульсии первого рода (прямы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воды в масле (в/м) или эмульсии второго рода (обратны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содержанию вещества дисперсной фазы эмульсии подразделяют 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бавленные, с массовой долей фазы до 0,1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нтр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массовой долей фазы до 74% (сохраняется сферическая форма част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ококонцентр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массовой долей фазы больше 74%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380880" y="55627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алесценция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произвольное слияние капель дисперсной фаз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609480" y="923760"/>
            <a:ext cx="78487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ремя жиз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муль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высота стол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 расслоения эмульсий на фаз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335268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6"/>
          <p:cNvSpPr/>
          <p:nvPr/>
        </p:nvSpPr>
        <p:spPr>
          <a:xfrm>
            <a:off x="4876920" y="419112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хема стабилизации эмульсии масла в воде олеатом нат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152280"/>
          <a:ext cx="8991720" cy="6303960"/>
        </p:xfrm>
        <a:graphic>
          <a:graphicData uri="http://schemas.openxmlformats.org/drawingml/2006/table">
            <a:tbl>
              <a:tblPr/>
              <a:tblGrid>
                <a:gridCol w="1504800"/>
                <a:gridCol w="1878120"/>
                <a:gridCol w="1532160"/>
                <a:gridCol w="407664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перс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перс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 системы и при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ые гетерогенные системы: минералы, сплавы, твердые з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спензии и золи: пульпы, взвеси, пасты, краски, золи металлов в в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эрозоли: пыли, дымы, порош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пиллярные системы: жидкость в пористых телах, адсорбенты в раствор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ульсии: нефть, кремы, молок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эрозоли: туманы, обла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ристые тела: твердые пены, адсорбенты в газах, пемза, пенобетон, пеноплас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ны: флотационные, противопожарные, мыль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являются гетерогенными систем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495680" cy="41148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228600" y="48006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стабилизации эмульсии воды в масле олеатом каль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3276360" cy="39625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457200" y="495648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молекул эмульгатора на капельках эмульсий типа м/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5105520" y="380880"/>
            <a:ext cx="3124080" cy="39625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4952880" y="480420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молекул эмульгатора на капельках эмульсий в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04920" y="396756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частиц гидрофильного порошка на поверхности капельки эмульсии м/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343400" cy="3124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4038840" cy="3124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4572000" y="396756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частиц гидрофобного порошка на поверхности капельки эмульсии в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3581640" cy="3733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190760" cy="36576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3"/>
          <p:cNvSpPr/>
          <p:nvPr/>
        </p:nvSpPr>
        <p:spPr>
          <a:xfrm>
            <a:off x="995400" y="4572000"/>
            <a:ext cx="29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строения п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4657320" y="4648320"/>
            <a:ext cx="41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– пленки жидкости   2 - кан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685800" y="452520"/>
            <a:ext cx="701028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атность пен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β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β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ж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ъем п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ъем жидкости, использованной для получения п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685800" y="2617920"/>
            <a:ext cx="784872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ойчивости пен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.е. время, в течение которого объем пены уменьшится вдвое, τ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τ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 = 0,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609480" y="30240"/>
            <a:ext cx="8001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дисперс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степени дисперсности частиц различ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рубодисперсны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размером частиц от 10-3 до 10-2см и более (грубые суспензии, песок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икрогетерогенны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размером частиц от10-4 до 10-5 см (эмульсии, тонкие суспензии, аэрозоли, порош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льтрамикрогетерог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стемы (коллоидно-дисперсные), с размером частиц от10-6 до 10-7см (зол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920" y="328644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ежфазному взаимодейств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висимости от интенсивности взаимодействия дисперсной фазы с дисперсионной средой различают лиофильные и лиофобные сис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офиль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характеризуются взаимодействием дисперсной фазой с дисперсной средой и при определенных уловиях растворяться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офоб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характеризуются тем, что дисперсная фаза не способна взаимодействовать с дисперсионной средой, а следовательно и растворяться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AutoShape 5"/>
          <p:cNvCxnSpPr/>
          <p:nvPr/>
        </p:nvCxnSpPr>
        <p:spPr>
          <a:xfrm>
            <a:off x="3657240" y="236196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AutoShape 6"/>
          <p:cNvCxnSpPr/>
          <p:nvPr/>
        </p:nvCxnSpPr>
        <p:spPr>
          <a:xfrm flipH="1">
            <a:off x="2894760" y="2361960"/>
            <a:ext cx="515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AutoShape 7"/>
          <p:cNvCxnSpPr/>
          <p:nvPr/>
        </p:nvCxnSpPr>
        <p:spPr>
          <a:xfrm>
            <a:off x="3504960" y="2437920"/>
            <a:ext cx="10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AutoShape 8"/>
          <p:cNvCxnSpPr/>
          <p:nvPr/>
        </p:nvCxnSpPr>
        <p:spPr>
          <a:xfrm flipH="1">
            <a:off x="3123720" y="2437920"/>
            <a:ext cx="24840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AutoShape 9"/>
          <p:cNvCxnSpPr/>
          <p:nvPr/>
        </p:nvCxnSpPr>
        <p:spPr>
          <a:xfrm>
            <a:off x="3505320" y="2590560"/>
            <a:ext cx="34344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10"/>
          <p:cNvCxnSpPr/>
          <p:nvPr/>
        </p:nvCxnSpPr>
        <p:spPr>
          <a:xfrm>
            <a:off x="3504960" y="289512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Rectangle 15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17"/>
          <p:cNvCxnSpPr/>
          <p:nvPr/>
        </p:nvCxnSpPr>
        <p:spPr>
          <a:xfrm>
            <a:off x="3580920" y="2438280"/>
            <a:ext cx="34380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Rectangle 18"/>
          <p:cNvSpPr/>
          <p:nvPr/>
        </p:nvSpPr>
        <p:spPr>
          <a:xfrm>
            <a:off x="609480" y="5119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е натяжение – это работа, затраченная на образование единицы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3276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3"/>
          <p:cNvSpPr/>
          <p:nvPr/>
        </p:nvSpPr>
        <p:spPr>
          <a:xfrm>
            <a:off x="4879080" y="4648680"/>
            <a:ext cx="7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04920" y="8370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жно рассматривать как меру избытка поверхностной энергии, приходящейся на единицу поверхности. Избыток возникает за счет некомпенсированности сил межмолекулярного взаимодействия у молекул поверхностного сло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219320" y="220824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-активные вещества (ПА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-инактивные вещества (ПИ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80880" y="35056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нижа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верхностное натяж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8458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6477120" cy="13716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228600" y="27432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е поверхностного натяжения раствора ПАВ изображается с помощь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отерм поверхностного натя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оризонтальный участок которых отвечает предельному насыщению поверхностного слоя молекулами ПА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905120" y="4343400"/>
            <a:ext cx="5410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228600" y="53712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В имеют поверхностное натяжение больше, чем у (кривая 2). При больших концентрациях ПИВ поверхностное натяжение раствора, может несколько увеличиваться (кривая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4952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380880" y="289080"/>
            <a:ext cx="8534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оцесс диспергирования идет в изотермических условиях и при постоянном объеме, то изменение энергии поверхности равно изменению изохорно-изотермического потенц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σ =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 изохорно-изотермический потенциал (поверхностная энерг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– площадь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04920" y="3069000"/>
            <a:ext cx="861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дсорбция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оцесс самопроизвольного перераспределения вещества между поверхностным слоем и объемом фазы. Фазу, на поверхности которой происходит адсорбция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ен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ещество, которое перераспределяется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а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тиво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ратный переход вещества из поверхностного слоя в объем фазы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сорбцие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80880" y="54853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глощаемое вещество диффундирует вглубь поглотителя и распределяется по объему, то это явление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бсорбци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3-04T17:26:3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